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BE8-962E-4290-8391-3ED2BF7B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FD4-6F06-4C54-8871-70C0A75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9E5-7F86-4ADA-AE50-9839C138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211-C8F0-4B67-84AD-5FEC330E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318-6548-441A-A2D5-BF04BE7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EE6-DBE4-4000-BBBE-F9D28B8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997-E181-4970-B1B0-2425C0C0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CFB-1DEF-45AC-B6B6-C480E7D2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636-1B4A-45B9-9B70-47BE3FE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2C7-23F4-4B87-AA25-10D2175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511-0416-4D4F-9DF8-07589BF7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2A3-EF11-422C-BF5A-7D25C32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E1F-077E-420E-8C9B-456706CE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re was an Old Lad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773440"/>
            <a:ext cx="4419720" cy="353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131920"/>
            <a:ext cx="5410080" cy="433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n old lady who swallowed a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hild’s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470320" cy="177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3505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nsert child’s pictu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know why she swallowed a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hild’s Name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me, oh 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1969920" cy="477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71600" y="1066680"/>
            <a:ext cx="61722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2:28:08Z</dcterms:created>
  <dc:creator>Patti J. Porto</dc:creator>
  <dc:description/>
  <dc:language>en-US</dc:language>
  <cp:lastModifiedBy>Patti Porto</cp:lastModifiedBy>
  <dcterms:modified xsi:type="dcterms:W3CDTF">2008-01-24T15:32:25Z</dcterms:modified>
  <cp:revision>26</cp:revision>
  <dc:subject/>
  <dc:title>Slide 1</dc:title>
</cp:coreProperties>
</file>